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E52-B6B2-4BC8-98F2-8869CDAD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46CA-A10D-4EA1-B9B7-B191B7BF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BCC0-6115-450B-9259-C85FD6E27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343A-3AA2-45AE-9A07-4CEB7805E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65CD-C34A-45B1-9F54-D6536FC3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C8F1-8C43-454A-99EF-C9D7C395D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9366-585B-4B2D-AE22-54DEE0207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2162-D7BF-4061-88C5-043283C3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87A8-FB5D-4DC2-9041-EF2558A2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9751-10D6-43C1-B470-E15BAD8E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EA07-9AD7-4910-82E0-DC00A277D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F019-2AB3-47CA-8EC7-E65E7C381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AF426-865E-43E2-A9FD-C80BDE14EA5A}" type="datetime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CCE8A-752B-484F-87BB-FDC9921DFAF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0200" y="5715000"/>
            <a:ext cx="6400800" cy="7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Прямоугольник 4" descr=""/>
          <p:cNvPicPr/>
          <p:nvPr/>
        </p:nvPicPr>
        <p:blipFill>
          <a:blip r:embed="rId1"/>
          <a:stretch/>
        </p:blipFill>
        <p:spPr>
          <a:xfrm>
            <a:off x="208080" y="1731960"/>
            <a:ext cx="877068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08000" y="765000"/>
            <a:ext cx="885672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РЕШЕНИЕ ПО ВТОРОМУ ВОПРОСУ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местителю начальника управления образования администрации городского округа Ушаковой И.Г., директору МБУ ДПО «Старооскольский институт развития образования» Куропаткиной А.Н., директору МБУ «Старооскольский центр оценки качества образования» Луневой С.Н.: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.1. Обеспечить выполнение плана мероприятий по соблюдению объективности проведения государственной итоговой аттестации на территории Старооскольского городского округа в 2023 году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ок: до 22.12.20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. Руководителям образовательных организаций городского округа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.1. Обеспечить выполнение плана мероприятий, направленных на достижение образовательными учреждениями городского округа показателей региональных составляющих федеральных проектов национальных проектов «Демография», «Образование»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ок: до 30.12.20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8.2. Обеспечить учет изменений ФГОС НОО и ООО при организации образовательной деятельности в 2022/2023 и 2023/2024 учебных годах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ок: постоянн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9. Руководителям общеобразовательных учреждений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9.1. Принять участие в мониторинге готовности к введению обновленного ФГОС СОО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ок: до 01.12.202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112f"/>
                </a:solidFill>
                <a:latin typeface="Times New Roman"/>
              </a:rPr>
              <a:t>Решение коллегии управления образования администрации Старооскольского городского округа от 30 марта 2023 года № 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. Директору МБУ ДПО «Старооскольский центр развития образования» Куропаткиной А.Н. организовать обучение работников образовательных учреждений, ответственных за профессиональную ориентацию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рок: до 30.12.2023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0" y="17928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Решение коллегии управления образования администрации Старооскольского городского округа от 28 декабря 2022 года № 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108000" y="981000"/>
            <a:ext cx="885672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РЕШЕНИЕ ПО ВТОРОМУ ВОПРОСУ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. Заместителю начальника управления образования Илюк Л.В., начальнику отдела воспитания и дополнительного образования управления образования Ревякиной М.С., начальнику отдела общего образования управления образования Акимовой Н.В. обеспечить организационное сопровождение конкурсного движения профориентационной направленности, в том числе для учащихся с ОВЗ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рок: постоянно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112f"/>
                </a:solidFill>
                <a:latin typeface="Times New Roman"/>
              </a:rPr>
              <a:t>Решение коллегии управления образования администрации Старооскольского городского округа от 01 ноября 2023 года № 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РЕШЕНИЕ ПО ВТОРОМУ ВОПРОСУ: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. Руководителям дошкольных образовательных учреждений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.1. Провести анализ ресурсов (кадровых, материально-технических, программных) дошкольных образовательных учреждений для модернизации образовательного пространства детского сада с целью развития технического творчества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</a:rPr>
              <a:t>Срок: до 30.11.2023 год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Прямоугольник 3"/>
          <p:cNvSpPr/>
          <p:nvPr/>
        </p:nvSpPr>
        <p:spPr>
          <a:xfrm>
            <a:off x="0" y="252360"/>
            <a:ext cx="91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e5112f"/>
                </a:solidFill>
                <a:latin typeface="Times New Roman"/>
              </a:rPr>
              <a:t>Решение коллегии управления образования администрации Старооскольского городского округа от 30 марта 2023 года № 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школа</dc:creator>
  <dc:description/>
  <dc:language>en-US</dc:language>
  <cp:lastModifiedBy>Пользователь</cp:lastModifiedBy>
  <dcterms:modified xsi:type="dcterms:W3CDTF">2023-12-27T17:42:42Z</dcterms:modified>
  <cp:revision>352</cp:revision>
  <dc:subject/>
  <dc:title>Слайд 1</dc:title>
</cp:coreProperties>
</file>